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716A-C8DA-4935-BBCC-E440E9061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1C92-8394-437D-875D-B49114B3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A52B-56CB-43E4-AE10-507313B36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3408-0B5D-41E7-9F85-35AFE0846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B1E1-FAF4-4FE2-BBA9-C3A27C15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46CD-EE1A-456A-99D5-512D1FBC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9515-B380-4BCD-96C6-D7438705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3338-D8BD-4671-AAF6-CEE78576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254C-FCC0-4791-BD35-C0376CB4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CD97-AE2B-4413-BD2B-CF9BF037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B2B0-37A4-4203-B518-FAAA52B0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4E08-45BB-4A02-9D91-14AAD3C4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78CC-76E8-4111-985E-A4EABEE1A2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arity I. Muli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143000" y="1905120"/>
            <a:ext cx="6858000" cy="374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4000" spc="-1" strike="noStrike">
                <a:solidFill>
                  <a:srgbClr val="c0504d"/>
                </a:solidFill>
                <a:latin typeface="Comic Sans MS"/>
              </a:rPr>
              <a:t>Mineral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s a </a:t>
            </a:r>
            <a:r>
              <a:rPr b="1" lang="en-US" sz="4000" spc="-1" strike="noStrike">
                <a:solidFill>
                  <a:srgbClr val="f79646"/>
                </a:solidFill>
                <a:latin typeface="Comic Sans MS"/>
              </a:rPr>
              <a:t>naturally occurring </a:t>
            </a:r>
            <a:r>
              <a:rPr b="1" lang="en-US" sz="4000" spc="-1" strike="noStrike">
                <a:solidFill>
                  <a:srgbClr val="990099"/>
                </a:solidFill>
                <a:latin typeface="Comic Sans MS"/>
              </a:rPr>
              <a:t>Inorganic Solid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ith a </a:t>
            </a:r>
            <a:r>
              <a:rPr b="1" lang="en-US" sz="4000" spc="-1" strike="noStrike">
                <a:solidFill>
                  <a:srgbClr val="00b0f0"/>
                </a:solidFill>
                <a:latin typeface="Comic Sans MS"/>
              </a:rPr>
              <a:t>definite chemical composition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and a</a:t>
            </a:r>
            <a:r>
              <a:rPr b="1" lang="en-US" sz="40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crystalline structure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do minerals for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447920" y="1828440"/>
            <a:ext cx="67053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rystallization from mag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Precipit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Pressure and Temperat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Hydrothermal solu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ineral Grou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ilic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Silicon and oxygen combine to form a structure called 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silicon-oxygen tetrahedron.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This silicon-oxygen tetrahedron provides the framework of every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silicate miner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"/>
          <p:cNvPicPr/>
          <p:nvPr/>
        </p:nvPicPr>
        <p:blipFill>
          <a:blip r:embed="rId2"/>
          <a:stretch/>
        </p:blipFill>
        <p:spPr>
          <a:xfrm>
            <a:off x="5562720" y="990720"/>
            <a:ext cx="3200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2T23:31:54Z</dcterms:created>
  <dc:creator>ASUS P5PE-VM</dc:creator>
  <dc:description/>
  <dc:language>en-US</dc:language>
  <cp:lastModifiedBy>ASUS P5PE-VM</cp:lastModifiedBy>
  <dcterms:modified xsi:type="dcterms:W3CDTF">2010-06-12T23:51:35Z</dcterms:modified>
  <cp:revision>2</cp:revision>
  <dc:subject/>
  <dc:title>Minerals</dc:title>
</cp:coreProperties>
</file>